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ADCB-454C-40A0-965C-D0A2804C6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3084-5380-48FE-B551-F4EFF4724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30C6-A090-4EC2-AFD4-0A87423BC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B86E-AB29-4B39-BB07-04ADDE628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A0710-F4DD-4F56-9C1C-C60879CCA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65478-0480-46E6-BD89-311892C4D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30D30-39D4-4F59-8F8E-222E4CA5A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359ED-AF4D-40C9-8F54-3497F3382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AF32C-8FBC-4640-AB32-5403E7F52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44C43-3004-439E-901F-94C128C96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C0AAD-81EF-4551-9373-BC9BA92BE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E351-126D-4136-8496-5A4BB0005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119A1-86DA-4565-8BE9-BC4C5BC3B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9AA75-32CA-4A03-9BAD-FF5DF3369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D4422-7A58-4702-83F2-72CB6695B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647FA-F37C-460E-9B87-A4D1C1F63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874C7-BCB1-4043-9641-4B3C5B3F2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362B-CCF1-43FF-8A91-8B7D18589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227B-5BDC-4D25-BDB7-349EF1610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3BD9-CA20-419E-830E-85255197F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021C-A8D2-410C-9E4B-3F91B8A0F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73CD-489B-456D-B873-EACF99E24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747E-7E1B-46DA-A029-02B29E219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5927-0DB5-4688-B29D-F37CBC9A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C92A0-F93A-47CA-A7AE-7BD3A7DEB8E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14ADF-0C2F-4227-9059-745FDB46D01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bbd71"/>
                </a:solidFill>
                <a:latin typeface="Arial"/>
              </a:rPr>
              <a:t>Ruth (continued)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th 3 - 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ges 129-13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e Days of the Judges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3581280"/>
            <a:ext cx="7162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43000" y="380880"/>
            <a:ext cx="6934320" cy="11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nday, March 27,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sson 2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000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e Judg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276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thni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hu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amg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bora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ide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imele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ai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5181480" y="1447920"/>
            <a:ext cx="32767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phth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bz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d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m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mu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001000" y="5867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2000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3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3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3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3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30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30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3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3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3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3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3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3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3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3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3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30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30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1.  Othniel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rst jud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eated king from Mesopotam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2438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2.  Ehu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3505320"/>
            <a:ext cx="8229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ft-han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illed big king Eglon of Moab inside his own house with a swo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5029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3.  Shamga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6095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lew 600 Philistines with an ox go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2362320"/>
            <a:ext cx="8686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4920" y="5029200"/>
            <a:ext cx="8610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534520" y="63244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2000">
    <p:split dir="out" orient="vert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4.  Deborah 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520" y="7617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lped Barak defeat Jabin &amp; the Canaani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woman, Jael, killed Sisera with tent stak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19051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5.  Gideo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" y="27432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eated Midianites with 300 men with trumpets, and lam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de ephod with 50 lbs. of golden earr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" y="4191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6.  Abimelech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3520" y="5105520"/>
            <a:ext cx="8229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lf-appointed jud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illed his 70 half-brothers on a ro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illed by a woman who dropped a rock on h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04920" y="1905120"/>
            <a:ext cx="8534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2280" y="4267080"/>
            <a:ext cx="8763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458200" y="6400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2000">
    <p:split dir="out" orient="vert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7.  Tola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udged 23 years; that’s a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533520" y="1523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8.  Jai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2362320"/>
            <a:ext cx="82296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rst judge from east of Jord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d 30 sons who rode 30 colts and ruled 30 c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" y="3962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9.  Jephthah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warrior recruited by Gilead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ow cost him his daugh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" y="4114800"/>
            <a:ext cx="8610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" y="1676520"/>
            <a:ext cx="8610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458200" y="6400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2000">
    <p:split dir="out" orient="vert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10. Ibzan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d 30 sons and 30 daught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wapped his 30 daughters for 30 foreign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"/>
          <p:cNvSpPr/>
          <p:nvPr/>
        </p:nvSpPr>
        <p:spPr>
          <a:xfrm>
            <a:off x="533520" y="2286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11.  Elo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" y="32004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udged Israel 10 years; that’s 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" y="3886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12. Abdon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d 40 sons and 30 nephews who rode on 70 co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2286000"/>
            <a:ext cx="8534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3962520"/>
            <a:ext cx="8534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458200" y="6400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2000">
    <p:split dir="out" orient="vert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13.  Samson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ved as a Nazarite; Tricked by 2 wom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ulled house down on the Philisti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22860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14.  Eli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3124080"/>
            <a:ext cx="82296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muel’s guardian; own sons wick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st 2 wars, 2 sons and the ark to the Philistines; fell and broke his ne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47242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15.  Samuel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" y="5562720"/>
            <a:ext cx="8686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eated the Philistines; 2 sons were corru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uided the anointment of 2 k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" y="2209680"/>
            <a:ext cx="8686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" y="4648320"/>
            <a:ext cx="8610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458200" y="6400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2000">
    <p:split dir="out" orient="vert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80880" y="1219320"/>
            <a:ext cx="42674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Creation Sto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Fl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Scattering of the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dbbd71"/>
                </a:solidFill>
                <a:uFillTx/>
                <a:latin typeface="Arial"/>
              </a:rPr>
              <a:t>The Periods of Bible History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5056200"/>
            <a:ext cx="3771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Life of Chr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Early Chu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Letters to Christi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80880" y="3124080"/>
            <a:ext cx="426744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The Patriarc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The Exod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Wandering of the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Conquest of Cana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0880" y="571500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Arial"/>
              </a:rPr>
              <a:t>The Judg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876920" y="1219320"/>
            <a:ext cx="3771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United King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Divided King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Judah Al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76920" y="3124080"/>
            <a:ext cx="3771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Cap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Retu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Years of Sil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2000">
    <p:split dir="out" orient="vert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1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4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4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4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4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4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4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4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4" repeatCount="1000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" presetSubtype="4" repeatCount="1000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 repeatCount="1000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41000"/>
                            </p:stCondLst>
                            <p:childTnLst>
                              <p:par>
                                <p:cTn id="356" nodeType="afterEffect" fill="hold" presetClass="entr" presetID="3" presetSubtype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9" dur="1" fill="hold">
                                    <p:stCondLst>
                                      <p:cond delay="10000"/>
                                    </p:stCondLst>
                                  </p:cTn>
                                  <p:tgtEl>
                                    <p:spTgt spid="20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bbd71"/>
                                </p:to>
                              </p:animClr>
                              <p:animClr clrSpc="rgb">
                                <p:cBhvr>
                                  <p:cTn id="360" dur="1" fill="hold">
                                    <p:stCondLst>
                                      <p:cond delay="10000"/>
                                    </p:stCondLst>
                                  </p:cTn>
                                  <p:tgtEl>
                                    <p:spTgt spid="20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bbd71"/>
                                </p:to>
                              </p:animClr>
                              <p:animClr clrSpc="rgb">
                                <p:cBhvr>
                                  <p:cTn id="361" dur="1" fill="hold">
                                    <p:stCondLst>
                                      <p:cond delay="10000"/>
                                    </p:stCondLst>
                                  </p:cTn>
                                  <p:tgtEl>
                                    <p:spTgt spid="20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bbd71"/>
                                </p:to>
                              </p:animClr>
                              <p:animClr clrSpc="rgb">
                                <p:cBhvr>
                                  <p:cTn id="362" dur="1" fill="hold">
                                    <p:stCondLst>
                                      <p:cond delay="10000"/>
                                    </p:stCondLst>
                                  </p:cTn>
                                  <p:tgtEl>
                                    <p:spTgt spid="20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bbd71"/>
                                </p:to>
                              </p:animClr>
                              <p:animClr clrSpc="rgb">
                                <p:cBhvr>
                                  <p:cTn id="363" dur="1" fill="hold">
                                    <p:stCondLst>
                                      <p:cond delay="10000"/>
                                    </p:stCondLst>
                                  </p:cTn>
                                  <p:tgtEl>
                                    <p:spTgt spid="20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bbd71"/>
                                </p:to>
                              </p:animClr>
                              <p:animClr clrSpc="rgb">
                                <p:cBhvr>
                                  <p:cTn id="364" dur="1" fill="hold">
                                    <p:stCondLst>
                                      <p:cond delay="10000"/>
                                    </p:stCondLst>
                                  </p:cTn>
                                  <p:tgtEl>
                                    <p:spTgt spid="20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bbd71"/>
                                </p:to>
                              </p:animClr>
                              <p:animClr clrSpc="rgb">
                                <p:cBhvr>
                                  <p:cTn id="365" dur="1" fill="hold">
                                    <p:stCondLst>
                                      <p:cond delay="10000"/>
                                    </p:stCondLst>
                                  </p:cTn>
                                  <p:tgtEl>
                                    <p:spTgt spid="20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bbd71"/>
                                </p:to>
                              </p:animClr>
                              <p:animClr clrSpc="rgb">
                                <p:cBhvr>
                                  <p:cTn id="366" dur="1" fill="hold">
                                    <p:stCondLst>
                                      <p:cond delay="10000"/>
                                    </p:stCondLst>
                                  </p:cTn>
                                  <p:tgtEl>
                                    <p:spTgt spid="20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bbd71"/>
                                </p:to>
                              </p:animClr>
                              <p:animClr clrSpc="rgb">
                                <p:cBhvr>
                                  <p:cTn id="367" dur="1" fill="hold">
                                    <p:stCondLst>
                                      <p:cond delay="1000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bbd71"/>
                                </p:to>
                              </p:animClr>
                              <p:animClr clrSpc="rgb">
                                <p:cBhvr>
                                  <p:cTn id="368" dur="1" fill="hold">
                                    <p:stCondLst>
                                      <p:cond delay="1000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bbd71"/>
                                </p:to>
                              </p:animClr>
                              <p:animClr clrSpc="rgb">
                                <p:cBhvr>
                                  <p:cTn id="369" dur="1" fill="hold">
                                    <p:stCondLst>
                                      <p:cond delay="1000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bbd71"/>
                                </p:to>
                              </p:animClr>
                              <p:animClr clrSpc="rgb">
                                <p:cBhvr>
                                  <p:cTn id="370" dur="1" fill="hold">
                                    <p:stCondLst>
                                      <p:cond delay="10000"/>
                                    </p:stCondLst>
                                  </p:cTn>
                                  <p:tgtEl>
                                    <p:spTgt spid="21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bbd71"/>
                                </p:to>
                              </p:animClr>
                              <p:animClr clrSpc="rgb">
                                <p:cBhvr>
                                  <p:cTn id="371" dur="1" fill="hold">
                                    <p:stCondLst>
                                      <p:cond delay="10000"/>
                                    </p:stCondLst>
                                  </p:cTn>
                                  <p:tgtEl>
                                    <p:spTgt spid="21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bbd71"/>
                                </p:to>
                              </p:animClr>
                              <p:animClr clrSpc="rgb">
                                <p:cBhvr>
                                  <p:cTn id="372" dur="1" fill="hold">
                                    <p:stCondLst>
                                      <p:cond delay="10000"/>
                                    </p:stCondLst>
                                  </p:cTn>
                                  <p:tgtEl>
                                    <p:spTgt spid="21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bbd71"/>
                                </p:to>
                              </p:animClr>
                              <p:animClr clrSpc="rgb">
                                <p:cBhvr>
                                  <p:cTn id="373" dur="1" fill="hold">
                                    <p:stCondLst>
                                      <p:cond delay="10000"/>
                                    </p:stCondLst>
                                  </p:cTn>
                                  <p:tgtEl>
                                    <p:spTgt spid="20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bbd71"/>
                                </p:to>
                              </p:animClr>
                              <p:animClr clrSpc="rgb">
                                <p:cBhvr>
                                  <p:cTn id="374" dur="1" fill="hold">
                                    <p:stCondLst>
                                      <p:cond delay="10000"/>
                                    </p:stCondLst>
                                  </p:cTn>
                                  <p:tgtEl>
                                    <p:spTgt spid="20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bbd71"/>
                                </p:to>
                              </p:animClr>
                              <p:animClr clrSpc="rgb">
                                <p:cBhvr>
                                  <p:cTn id="375" dur="1" fill="hold">
                                    <p:stCondLst>
                                      <p:cond delay="10000"/>
                                    </p:stCondLst>
                                  </p:cTn>
                                  <p:tgtEl>
                                    <p:spTgt spid="20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bbd7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7T14:18:46Z</dcterms:created>
  <dc:creator>Frank D Vines</dc:creator>
  <dc:description/>
  <dc:language>en-US</dc:language>
  <cp:lastModifiedBy>Frank D Vines</cp:lastModifiedBy>
  <dcterms:modified xsi:type="dcterms:W3CDTF">2008-09-20T18:25:36Z</dcterms:modified>
  <cp:revision>20</cp:revision>
  <dc:subject/>
  <dc:title>Slide 1</dc:title>
</cp:coreProperties>
</file>